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84227"/>
        <c:axId val="50153774"/>
      </c:barChart>
      <c:catAx>
        <c:axId val="50984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53774"/>
        <c:crosses val="autoZero"/>
        <c:auto val="1"/>
        <c:lblAlgn val="ctr"/>
        <c:lblOffset val="100"/>
        <c:noMultiLvlLbl val="0"/>
      </c:catAx>
      <c:valAx>
        <c:axId val="50153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84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0D0-D500-482F-A4C3-9689F60E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402-CDB0-443B-B5DC-D9DB67BA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26A-761F-4A42-A0F4-9B1587B4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B74-35B3-49AE-8D6C-48FCB4DE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425-77C6-4E79-B8DD-FC8AC68E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96A-6F1B-4CF0-8D09-DE4FC92F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03C-8AB0-4353-AA5E-44525B6B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289-7871-46D2-962D-6063E13C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0A5-D366-448F-8397-2397910F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C79-85B6-4E08-B9C2-E1718689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877-D450-4193-9450-32EB48A7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DEA-50D4-4674-957B-96E30861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8DF3E-2A93-437B-B4D4-6F7A1F4F35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